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DFAE-1E22-4DCA-B156-6787700F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96EE-FB1D-4F27-8A24-C093FB551E7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BBEB-098B-47E6-A962-E488A757235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57600" y="9140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Мастер-класс</a:t>
            </a:r>
            <a:br>
              <a:rPr sz="5400"/>
            </a:b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Компания</a:t>
            </a:r>
            <a:br>
              <a:rPr sz="5400"/>
            </a:b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«</a:t>
            </a:r>
            <a:r>
              <a:rPr b="0" lang="en-US" sz="5400" spc="-1" strike="noStrike">
                <a:solidFill>
                  <a:srgbClr val="4d4d4d"/>
                </a:solidFill>
                <a:latin typeface="Microsoft Sans Serif"/>
              </a:rPr>
              <a:t>Creative</a:t>
            </a: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»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3962520" y="4876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хова Любовь Павловна, учитель географии МАОУ «Средняя общеобразовательная школа №30» г.Вологда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380880" y="5943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.04.2025г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Задание: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Предложите </a:t>
            </a: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как можно больше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способов использования сапога в походных условиях не по прямому назначению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2895480"/>
            <a:ext cx="71629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Собирать грибы и ягоды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Носить воду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Обороняться от хищников (бросать)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Раздувать костёр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Ловить рыбу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Надев на руки, пробираться сквозь заросли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Пометить место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Использовать как термос и т.д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758960" y="2249640"/>
            <a:ext cx="53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Возможные ответы: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143000" y="5410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0623"/>
                </a:solidFill>
                <a:latin typeface="Arial"/>
              </a:rPr>
              <a:t>Только творчество! Только креатив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220356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Рекламу правой и левой палочек «Твикс» видели все.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Фирма по их производству отметила тот факт, что стандартная подача данного продукта уже надоела покупателям.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Компании «</a:t>
            </a:r>
            <a:r>
              <a:rPr b="0" lang="en-US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Creative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» предстоит придумать </a:t>
            </a:r>
            <a:r>
              <a:rPr b="1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все возможные способы 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производства палочек так, чтобы они выглядели иначе с точки зрения геометрии.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623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Задание 1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8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Microsoft Sans Serif"/>
              </a:rPr>
              <a:t>Система  оценивания </a:t>
            </a:r>
            <a:br>
              <a:rPr sz="3200"/>
            </a:br>
            <a:r>
              <a:rPr b="0" lang="ru-RU" sz="2400" spc="-1" strike="noStrike">
                <a:solidFill>
                  <a:srgbClr val="292929"/>
                </a:solidFill>
                <a:latin typeface="Microsoft Sans Serif"/>
              </a:rPr>
              <a:t>(на основе критериев теста Д.Гилфорда)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878040"/>
          <a:ext cx="8534160" cy="5198760"/>
        </p:xfrm>
        <a:graphic>
          <a:graphicData uri="http://schemas.openxmlformats.org/drawingml/2006/table">
            <a:tbl>
              <a:tblPr/>
              <a:tblGrid>
                <a:gridCol w="2133360"/>
                <a:gridCol w="3124440"/>
                <a:gridCol w="32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Содержание критерия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Продуктивн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разных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1 балл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иде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групп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(в одну группу помещают сходные идеи 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3 балла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группу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</a:tr>
              <a:tr h="26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Оригинальн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идей, содержащих своеобразные, необычные подходы к проблеме нестандартное употребление элементов, оригинальную структуру ответа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5 баллов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оригинальную иде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TextBox 5"/>
          <p:cNvSpPr/>
          <p:nvPr/>
        </p:nvSpPr>
        <p:spPr>
          <a:xfrm>
            <a:off x="304920" y="61261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нимание! Оцениваются только осмысленные, реалистичные идеи, имеющие непосредственное отношение к заданию!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839600" y="1447560"/>
            <a:ext cx="7227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Фирма по производству кроссовок столкнулась с воровством на производстве.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Компания «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reative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» по заказу данной фирмы должна продумать </a:t>
            </a: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как можно больше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способов кражи кроссовок, чтобы фирма могла их предотвратить.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133720" y="457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Задание 2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8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Microsoft Sans Serif"/>
              </a:rPr>
              <a:t>Система  оценивания</a:t>
            </a:r>
            <a:br>
              <a:rPr sz="3200"/>
            </a:br>
            <a:r>
              <a:rPr b="0" lang="ru-RU" sz="2400" spc="-1" strike="noStrike">
                <a:solidFill>
                  <a:srgbClr val="292929"/>
                </a:solidFill>
                <a:latin typeface="Microsoft Sans Serif"/>
              </a:rPr>
              <a:t>(на основе критериев теста Д.Гилфорда)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878040"/>
          <a:ext cx="8534160" cy="5198760"/>
        </p:xfrm>
        <a:graphic>
          <a:graphicData uri="http://schemas.openxmlformats.org/drawingml/2006/table">
            <a:tbl>
              <a:tblPr/>
              <a:tblGrid>
                <a:gridCol w="2133360"/>
                <a:gridCol w="3124440"/>
                <a:gridCol w="32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Содержание критерия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Продуктивн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разных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1 балл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иде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групп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(в одну группу помещают сходные идеи 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3 балла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группу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</a:tr>
              <a:tr h="26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Оригинальн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идей, содержащих своеобразные, необычные подходы к проблеме нестандартное употребление элементов, оригинальную структуру ответа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5 баллов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оригинальную иде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" name="TextBox 5"/>
          <p:cNvSpPr/>
          <p:nvPr/>
        </p:nvSpPr>
        <p:spPr>
          <a:xfrm>
            <a:off x="304920" y="61261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нимание! Оцениваются только осмысленные, реалистичные идеи, имеющие непосредственное отношение к заданию!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143000" y="5410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0623"/>
                </a:solidFill>
                <a:latin typeface="Arial"/>
              </a:rPr>
              <a:t>Только творчество! Только креатив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Navalniy</cp:lastModifiedBy>
  <dcterms:modified xsi:type="dcterms:W3CDTF">2025-10-25T13:03:01Z</dcterms:modified>
  <cp:revision>179</cp:revision>
  <dc:subject/>
  <dc:title>Name of presentation</dc:title>
</cp:coreProperties>
</file>